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9BA-B8FF-40CD-A8A5-AEC88D94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5E8-8514-4AED-9B36-4E2F6A90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DE8-E6AE-498E-861B-6A08E075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383-619A-4734-8306-780E4407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0793-7772-4F57-8FCF-F90D9628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9FDF-6D7F-47A9-8E28-272A0506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C1C5-2232-43FC-942F-7066B708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2505-EB07-4FA4-96BF-AD15CEBE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7D5-F577-4CDB-BCD1-0215DED6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DFE3-052D-40F5-85D1-5A375707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35DB-0680-46C7-A52F-73BCD59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7ED-B1F5-4A6B-BE35-09D89DF7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0B86-32A7-4D3E-BF31-4814F0B7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DEB-0BAC-415D-8966-0311F4C7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5C2A-2947-407D-AD3D-B04FAF1B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61B5-C7E5-43F3-8739-583769A5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7B32-78A8-4CE2-8D3B-189D6824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91F-CB3A-4A8C-83E1-47BB62F0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77A-ADDB-4DED-BD25-B54FAAFC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98B-0101-4402-8C9C-EADBF3DC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2D3-408E-47C2-85C6-4CBC602E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B2C-18B8-4AC2-9F30-6DF1A47C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D30-436F-4AB6-84C0-2CD4DFB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FE2-8D63-4493-A7A6-ABBF88F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EB8B-E719-4E80-9588-EA704C84B7C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7B1D-87AA-4D34-8981-203637E4AE9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jor Research Instrumentation- COV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iscussion of the Issues and Recommendations with SMAR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ctober 18, 2005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view Process: Uniformity, Quality, and Transpar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gnificant variations of  the review mechanism and associated document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 Utilization of panels across the  foundation, augmented by ad hoc reviews when needed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ed to pay more attention in documenting decisions and communicating the rational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Provide a more detailed review analysis to PIs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cument better decisions regarding large proposals and the large proposal panel process.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gnificant variation in recognition of the value of using diverse reviewer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Improve representation and document it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sing Merit Review Criteri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 explicit instructions on how the two criteria are applied to Ph.D.- granting and non-Ph.D. granting institu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develop guidelines for Ph.D. granting institutions and separate guidelines for non-Ph.D. granting institutions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gnificant disparity in usage of broader impacts criterion across NS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 Ensure utilization of broader impact criterion, and require reporting about the related accomplishments in the final report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mmunication to the Research and Education Communiti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eed to explain clearly that non-Ph.D. granting institutions are competed separatel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non-Ph.D. granting institutions develop better proposal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provide a web-library of excellent proposal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eed to clearly define “development” proposal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eed to convey expected management plans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uidance on how different types of institutions may best fulfill broader impact criterion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valuating Program Impac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eed more information (beyond present type of final report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Require post award reporting, including verifying that the instruments have been used as intended. Alternatives include considering 5 year project duration and detailed final report, and/or various incentives to have better final reports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quire more detailed management plans to be used in proposal evaluations-(Final report)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Limits Imposed by the Solicit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umber of proposals per organiz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Allow each organization to submit one proposal/directorate or office (7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ap on requested amount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: Increase cap to $4-6M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oster collaborative proposals between Ph.D. and non-Ph.D. granting institu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ish a separate limit for this type proposal and/or establish separate funding opportunitie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directly operations and maintenance cost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gram Data Comparison 2004-2005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Number of Proposals Reviewed: 838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Dollars Requested: $421,372,027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Average Dollar Requested: $502,831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Median Dollar Requested: $375,82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Number of Awards: 327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MRI Dollars Awarded in Year: $109,067,161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NSF Dollars Awarded in Year: $112,854,311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Average Award (NSF Dollars): $345,120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Median Award (NSF Dollars): $279,983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Success Rate: 39%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Number of Proposals Reviewed: 786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Dollars Requested: $473,579,186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Average Dollar Requested: $602,518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Median Dollar Requested: $445,980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Number of Awards: 255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MRI Dollars Awarded in Year: $89,281,684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NSF Dollars Awarded in Year: $93,690,810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Average Award (NSF Dollars): $367,415</a:t>
            </a:r>
            <a:br>
              <a:rPr sz="1600"/>
            </a:b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Median Award (NSF Dollars): $294,200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Success Rate: 32%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53:46Z</dcterms:created>
  <dc:creator>NPITTS</dc:creator>
  <dc:description/>
  <dc:language>en-US</dc:language>
  <cp:lastModifiedBy>wreuning</cp:lastModifiedBy>
  <dcterms:modified xsi:type="dcterms:W3CDTF">2005-10-19T20:47:40Z</dcterms:modified>
  <cp:revision>3</cp:revision>
  <dc:subject/>
  <dc:title>Major Research Instrumentation- COV</dc:title>
</cp:coreProperties>
</file>